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48FD-CB27-4253-B1EE-F8E5F3082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85520" y="418068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F9F2-9949-4B99-AD12-32AEEE7D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584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E6B1-F10A-4CB6-9ED8-C9C24B130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384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216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8552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384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216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9505-3C8D-4D0E-9CBE-AC93BB4F7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E0734-D541-485C-960B-46EBC866F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10F3-10C3-42FF-8F6B-C3173E15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AF00-0F1B-4CFC-B817-9C4AF37B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8B56-1FD2-4FC9-B5AF-C29D5BE4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7DFA-3590-4B01-AA3D-11E52237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14240" y="2854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9B5B-111D-4FB4-AEA2-2CE771EC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74CBE-7724-4A6D-B42C-D7104CF5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F012-55AF-4072-B504-F1EEC771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584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D2C33-1CD4-4914-B528-C477FD86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129B-C571-4A5B-A300-74CE487F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85520" y="418068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2C45-AB74-4648-8D3B-AE77A037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584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BA09-C659-4A8E-AC42-AC4797533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384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216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8552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384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216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6AC9-5768-477C-AFC7-829218AAF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AB94-29BA-4E01-8353-854E07E9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6120-B99C-4D3B-A6EB-DF054C27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CCFA-EDE7-4DA3-84E0-F288F87B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4240" y="2854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2F2C-8DD7-4089-BDF3-D1949FA8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77B6-3850-41FA-AB51-B6D6B996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584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A95D-1BC5-491C-9FCA-D601B03E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B869-1076-4F49-9A84-6F70C1CF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0FEE-606E-49F9-89DE-4AA0AAF1368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DBB1-7604-4D50-9162-C9A235772F6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71480" y="1142640"/>
            <a:ext cx="634356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00280" y="3714840"/>
            <a:ext cx="540072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с.Павловс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Алтайский кра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85520" y="1643040"/>
            <a:ext cx="81579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3142800" y="1428480"/>
            <a:ext cx="58006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moderntheorie.com/wp-content/uploads/2010/11/E-mail-is-very-important-to-the-Company.jp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nppbillon.ru/images/e-mail.p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3" descr=""/>
          <p:cNvPicPr/>
          <p:nvPr/>
        </p:nvPicPr>
        <p:blipFill>
          <a:blip r:embed="rId2"/>
          <a:stretch/>
        </p:blipFill>
        <p:spPr>
          <a:xfrm>
            <a:off x="1500120" y="1428840"/>
            <a:ext cx="100008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d:\Мои документы\Мои рисунки\e-mail.png"/>
          <p:cNvPicPr/>
          <p:nvPr/>
        </p:nvPicPr>
        <p:blipFill>
          <a:blip r:embed="rId3"/>
          <a:stretch/>
        </p:blipFill>
        <p:spPr>
          <a:xfrm>
            <a:off x="1571760" y="30718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07:55:38Z</dcterms:created>
  <dc:creator>Comp</dc:creator>
  <dc:description/>
  <dc:language>en-US</dc:language>
  <cp:lastModifiedBy>Comp</cp:lastModifiedBy>
  <dcterms:modified xsi:type="dcterms:W3CDTF">2011-07-27T08:00:47Z</dcterms:modified>
  <cp:revision>1</cp:revision>
  <dc:subject/>
  <dc:title>Слайд 1</dc:title>
</cp:coreProperties>
</file>